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223-3604-4E25-BB52-FD86AFBF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3CDC-DE51-4700-86F1-02A8C1BD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8653-8616-4C49-8828-8F65A9AF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3EA-81B3-4643-A1BD-50DEDB75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2082-1C39-488F-BB87-F56B69E2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468-0371-4358-98D1-941ECD88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36E6-B64B-48BF-8D05-3EB42710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C9D7-180F-4789-A914-E9AB49C8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1FD-4934-4FB0-901B-1E4E8A35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1B3-1CDD-4FA6-85F2-85B188AF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6F0-7FD1-4577-A988-9DB9C3A5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6EE1-1248-4636-9D79-18EF86F9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A916-B989-4379-8C51-A2DF9A9B0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Design and Analysis of Matched D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20520" y="3505320"/>
            <a:ext cx="649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Presenter: DAVID G. KLEINBAU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Dept. of Epidem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Rollins School of Public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Emory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Atlanta, 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2080" y="1752480"/>
            <a:ext cx="818316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All 15 Chapters (Lessons) Complete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Golden Master CD sent to Publisher-  May 15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ActivEpi Companion Text- to be completed June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Purchase Price of CD- approx $US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Purchase Price of Companion Text:  approx $US 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618c6"/>
                </a:solidFill>
                <a:latin typeface="Times New Roman"/>
              </a:rPr>
              <a:t>Availability for Purchase: September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9480" y="1066680"/>
            <a:ext cx="35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CURRENT STAT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INTRODUCTION </a:t>
            </a:r>
            <a:br>
              <a:rPr sz="4400"/>
            </a:b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AND </a:t>
            </a:r>
            <a:br>
              <a:rPr sz="4400"/>
            </a:br>
            <a:r>
              <a:rPr b="1" lang="en-US" sz="4400" spc="-1" strike="noStrike">
                <a:solidFill>
                  <a:srgbClr val="4618c6"/>
                </a:solidFill>
                <a:latin typeface="Times New Roman"/>
              </a:rPr>
              <a:t>DEFINITION OF MAT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8487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28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CHING ?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Design Option for the Control of Extraneous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657240"/>
            <a:ext cx="6781680" cy="205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erimental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servational Cohort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servational Case-Control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3920" y="192096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74320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873920" cy="4040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8305920" cy="1384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18"/>
                </a:solidFill>
                <a:latin typeface="Times New Roman"/>
              </a:rPr>
              <a:t>Part 0: ACTIVEPI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 MULTIMEDIA CD ROM</a:t>
            </a:r>
            <a:br>
              <a:rPr sz="3600"/>
            </a:b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COURSE ON  FUNDAMENTALS OF EPIDEMI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924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OUTLINE: MATCHING IN EPIDEMIOLOGIC RESEARCH (Part 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Definition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Types of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Matching Rat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Reasons for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Reasons Against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To Match or Not to Match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MATCHING OUTLINE continued</a:t>
            </a:r>
            <a:br>
              <a:rPr sz="3600"/>
            </a:b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(Part 2- ANALYSI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Options and General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Pair-Matched Case-Contro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R-to-1 Matched Case-Contro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Frequency-match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Logistic Regression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Pair-Matched Cohor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MATCHING OUTLINE continued</a:t>
            </a:r>
            <a:br>
              <a:rPr sz="3600"/>
            </a:b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(Part 3- OTHER ISSU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Pooling Exchangeable Matched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Assessing Interaction For Matched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Breaking the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Ignoring the Matc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Anything el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COURSE PREREQUISITES</a:t>
            </a:r>
            <a:br>
              <a:rPr sz="3600"/>
            </a:b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(HOPEFULL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Times New Roman"/>
              </a:rPr>
              <a:t>Basic principles and methods of epidemiology</a:t>
            </a: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18c6"/>
                </a:solidFill>
                <a:latin typeface="Times New Roman"/>
              </a:rPr>
              <a:t>(e.g., study designs,  measures of disease frequency and effect, confounding, effect mod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Times New Roman"/>
              </a:rPr>
              <a:t>Basic principles and methods of bio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18c6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4618c6"/>
                </a:solidFill>
                <a:latin typeface="Times New Roman"/>
              </a:rPr>
              <a:t>(e.g., standard error, tests of hypothesis, confidence intervals, P-v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Times New Roman"/>
              </a:rPr>
              <a:t>Some background in logistic regression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18c6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4618c6"/>
                </a:solidFill>
                <a:latin typeface="Times New Roman"/>
              </a:rPr>
              <a:t>(e.g., the model form, the logit function, odds ratio estim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Times New Roman"/>
              </a:rPr>
              <a:t>Some experience with computer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18c6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4618c6"/>
                </a:solidFill>
                <a:latin typeface="Times New Roman"/>
              </a:rPr>
              <a:t>(e.g., SAS, STATA, SP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5000" y="1920960"/>
            <a:ext cx="23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7432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A CD-ROM MULTIMED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LEARNER-INTERACTIVE COURSE ON FUNDAMENTALS OF EPIDEM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18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cc18"/>
                </a:solidFill>
                <a:latin typeface="Times New Roman"/>
              </a:rPr>
              <a:t>(FOR WINDOWS AND M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7520" y="1920960"/>
            <a:ext cx="40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WHO DEVELOPED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2743200"/>
            <a:ext cx="7010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DAVID G. KLEINBAUM- AUTH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DATA DESCRIPTION (Ithaca, NY)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MEDIA 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SPRINGER-VERLAG- PUBLI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18c6"/>
                </a:solidFill>
                <a:latin typeface="Times New Roman"/>
              </a:rPr>
              <a:t>Course outline covers topics in most      intro epi texts </a:t>
            </a:r>
            <a:r>
              <a:rPr b="0" lang="en-US" sz="2400" spc="-1" strike="noStrike">
                <a:solidFill>
                  <a:srgbClr val="4618c6"/>
                </a:solidFill>
                <a:latin typeface="Times New Roman"/>
              </a:rPr>
              <a:t>(e.g., Kleinbaum, Kupper, &amp; Morgenstern, Rothman-Greenland, Kels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18c6"/>
                </a:solidFill>
                <a:latin typeface="Times New Roman"/>
              </a:rPr>
              <a:t>Chapter Topics </a:t>
            </a:r>
            <a:r>
              <a:rPr b="0" lang="en-US" sz="2400" spc="-1" strike="noStrike">
                <a:solidFill>
                  <a:srgbClr val="4618c6"/>
                </a:solidFill>
                <a:latin typeface="Times New Roman"/>
              </a:rPr>
              <a:t>(e.g., Measures of Disease Frequency, Measures of Effect, Confounding)</a:t>
            </a:r>
            <a:r>
              <a:rPr b="0" lang="en-US" sz="3200" spc="-1" strike="noStrike">
                <a:solidFill>
                  <a:srgbClr val="4618c6"/>
                </a:solidFill>
                <a:latin typeface="Times New Roman"/>
              </a:rPr>
              <a:t> are called “Lesson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18c6"/>
                </a:solidFill>
                <a:latin typeface="Times New Roman"/>
              </a:rPr>
              <a:t>15 Lessons, each with several “Activiti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a800"/>
                </a:solidFill>
                <a:latin typeface="Times New Roman"/>
              </a:rPr>
              <a:t>(NOTE: LESSON 15- MATC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6800" y="99072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HOW ORGANIZ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2-07-03T13:18:39Z</dcterms:modified>
  <cp:revision>107</cp:revision>
  <dc:subject/>
  <dc:title>The Art in the State of the Art</dc:title>
</cp:coreProperties>
</file>